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2D00-D11E-4C93-B4D7-22254F0DB4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stra no Sen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h30 – 2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e 312-6260 (Sra. Euz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98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16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844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98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16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4760" y="3808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cid.castello.com.br/mundo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" descr="Clique aqui para informações sobre o mun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16800" y="7632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27040" y="4078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CidCastell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7320" y="685800"/>
            <a:ext cx="21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320" y="6248520"/>
            <a:ext cx="8915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30200" y="304560"/>
            <a:ext cx="0" cy="6476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821720" y="609480"/>
            <a:ext cx="384120" cy="4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stado.com.br/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As “Ondas de Alvin Toffler”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rimeira Onda - a fase agrícola da civilização human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egunda Onda - a fase industrial da humanidad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erceira Onda - em que atualmente nos encontramo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O que diz Alvin Toffler sobre a chamada “Terceira Onda”?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“…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O mundo que está emergindo rapidamente do choque de novos valores e tecnologias, novas relações geo-políticas, novos estilos de vida e novos modos de comunicação, exige idéias e analogias novas, novas classificações e novos conceitos…”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30320" y="5278320"/>
            <a:ext cx="29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3068640"/>
            <a:ext cx="223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4560" y="4062240"/>
            <a:ext cx="6049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Idéias…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8440" y="1557000"/>
            <a:ext cx="8256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conceito de “ondas” nos remete à idéia de revoluções seguida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ma revolução pressupõe mudanças e a destruição de valo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 autor traça cenários cada vez mais atuais, nos quais estamos todos inserido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isando a chamada “Terceira Onda”, parece-nos claro que estamos falando da eliminação das fronteiras do mund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Toffler fala muito de: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8440" y="1773360"/>
            <a:ext cx="8256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ormaçã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unicaçã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nologia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ração mundial (“Aldeia Global”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rabalho em casa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elecomunidade (comunicação x transporte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massificação dos meios de comunicaçã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Olhando esse panorama, parece até que estamos falando da própria Internet…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916280"/>
            <a:ext cx="80629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liás, no Capítulo 14 – O Meio Inteligente – Toffler dedica especial atenção ao computador…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08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“…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oje, ao construirmos uma nova infosfera para a civilização da Terceira Onda, estamos comunicando ao meio ‘morto’ em volta de nós não vida, mas inteligência. A chave para este avanço evolucionário é, naturalmente, o computador. Uma combinação de memória eletrônica com programas que dizem à máquina como processar os dados acumulados, os computadores eram ainda uma curiosidade científica no começo da década de 50. Entre 1955 e 1965, entretanto,  a década em que a Terceira Onde começou a se manifestar nos Estados Unidos, eles começaram a infiltrar-se lentamente no mundo comercial…”</a:t>
            </a:r>
            <a:endParaRPr b="1" i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080" y="5646600"/>
            <a:ext cx="29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1252080"/>
            <a:ext cx="81914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E estamos falando de uma obra escrita muitos anos antes da proliferação definitiva dos computadores e da “explosão” do fenômeno da Internet comercial no mundo…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omputadores, redes de computadores, Internet…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609480"/>
            <a:ext cx="8382240" cy="5791320"/>
          </a:xfrm>
          <a:prstGeom prst="rect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209680"/>
            <a:ext cx="8064720" cy="1828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0" spc="-1" strike="noStrike">
                <a:solidFill>
                  <a:srgbClr val="cc3300"/>
                </a:solidFill>
                <a:latin typeface="Times New Roman"/>
              </a:rPr>
              <a:t>Boa noite!</a:t>
            </a:r>
            <a:endParaRPr b="1" i="1" lang="en-US" sz="1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806400"/>
            <a:ext cx="8736120" cy="521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59280" y="2278080"/>
            <a:ext cx="2016000" cy="287964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504000 h 2879640"/>
              <a:gd name="textAreaBottom" fmla="*/ 2088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8867400">
            <a:off x="3419640" y="1698120"/>
            <a:ext cx="5688000" cy="1298880"/>
          </a:xfrm>
          <a:custGeom>
            <a:avLst/>
            <a:gdLst>
              <a:gd name="textAreaLeft" fmla="*/ 0 w 5688000"/>
              <a:gd name="textAreaRight" fmla="*/ 5688360 w 568800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1800" y="3571920"/>
            <a:ext cx="1225800" cy="1225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692360" y="4508280"/>
            <a:ext cx="107928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781440" y="457956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2492280"/>
            <a:ext cx="7308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9640" y="4873680"/>
            <a:ext cx="1366920" cy="1289160"/>
            <a:chOff x="539640" y="4873680"/>
            <a:chExt cx="1366920" cy="1289160"/>
          </a:xfrm>
        </p:grpSpPr>
        <p:sp>
          <p:nvSpPr>
            <p:cNvPr id="124" name=""/>
            <p:cNvSpPr/>
            <p:nvPr/>
          </p:nvSpPr>
          <p:spPr>
            <a:xfrm>
              <a:off x="828720" y="508464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87280" y="551808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900000" y="487368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539640" y="5445000"/>
              <a:ext cx="719280" cy="64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556000" y="1415880"/>
            <a:ext cx="1366560" cy="1289160"/>
            <a:chOff x="2556000" y="1415880"/>
            <a:chExt cx="1366560" cy="1289160"/>
          </a:xfrm>
        </p:grpSpPr>
        <p:sp>
          <p:nvSpPr>
            <p:cNvPr id="129" name=""/>
            <p:cNvSpPr/>
            <p:nvPr/>
          </p:nvSpPr>
          <p:spPr>
            <a:xfrm>
              <a:off x="2773440" y="170028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556000" y="1415880"/>
              <a:ext cx="1366560" cy="1289160"/>
              <a:chOff x="2556000" y="1415880"/>
              <a:chExt cx="1366560" cy="12891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3640" y="206064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16360" y="1415880"/>
                <a:ext cx="71892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56000" y="198756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4140360" y="4803840"/>
            <a:ext cx="1366560" cy="1289160"/>
            <a:chOff x="4140360" y="4803840"/>
            <a:chExt cx="1366560" cy="1289160"/>
          </a:xfrm>
        </p:grpSpPr>
        <p:sp>
          <p:nvSpPr>
            <p:cNvPr id="135" name=""/>
            <p:cNvSpPr/>
            <p:nvPr/>
          </p:nvSpPr>
          <p:spPr>
            <a:xfrm>
              <a:off x="4357800" y="501336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4788000" y="54482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4500720" y="48038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9"/>
            <a:stretch/>
          </p:blipFill>
          <p:spPr>
            <a:xfrm>
              <a:off x="4140360" y="5375160"/>
              <a:ext cx="718920" cy="6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 flipH="1">
            <a:off x="5076360" y="4508640"/>
            <a:ext cx="136692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4842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92000" y="76500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344880" y="4437000"/>
            <a:ext cx="22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SP de conteú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632600">
            <a:off x="4802760" y="1412640"/>
            <a:ext cx="40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26920" y="692280"/>
            <a:ext cx="1079640" cy="933480"/>
            <a:chOff x="826920" y="692280"/>
            <a:chExt cx="1079640" cy="933480"/>
          </a:xfrm>
        </p:grpSpPr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>
              <a:off x="1187280" y="9810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6920" y="69228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40000" y="260280"/>
            <a:ext cx="934920" cy="789120"/>
            <a:chOff x="2340000" y="260280"/>
            <a:chExt cx="934920" cy="789120"/>
          </a:xfrm>
        </p:grpSpPr>
        <p:pic>
          <p:nvPicPr>
            <p:cNvPr id="149" name="" descr=""/>
            <p:cNvPicPr/>
            <p:nvPr/>
          </p:nvPicPr>
          <p:blipFill>
            <a:blip r:embed="rId11"/>
            <a:stretch/>
          </p:blipFill>
          <p:spPr>
            <a:xfrm>
              <a:off x="2411280" y="40464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340000" y="26028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924360" y="189000"/>
            <a:ext cx="1008000" cy="860400"/>
            <a:chOff x="3924360" y="189000"/>
            <a:chExt cx="1008000" cy="860400"/>
          </a:xfrm>
        </p:grpSpPr>
        <p:pic>
          <p:nvPicPr>
            <p:cNvPr id="152" name="" descr=""/>
            <p:cNvPicPr/>
            <p:nvPr/>
          </p:nvPicPr>
          <p:blipFill>
            <a:blip r:embed="rId12"/>
            <a:stretch/>
          </p:blipFill>
          <p:spPr>
            <a:xfrm>
              <a:off x="3924360" y="4046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97440" y="18900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12000" y="3774960"/>
            <a:ext cx="2447640" cy="874800"/>
            <a:chOff x="6012000" y="3774960"/>
            <a:chExt cx="2447640" cy="874800"/>
          </a:xfrm>
        </p:grpSpPr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>
              <a:off x="6012000" y="400536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372360" y="3774960"/>
              <a:ext cx="208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is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H="1" flipV="1">
            <a:off x="5292720" y="5661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227640" y="5157720"/>
            <a:ext cx="2376720" cy="1076400"/>
            <a:chOff x="6227640" y="5157720"/>
            <a:chExt cx="2376720" cy="1076400"/>
          </a:xfrm>
        </p:grpSpPr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6227640" y="558972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99280" y="515772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edi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60880" y="3867120"/>
            <a:ext cx="18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15440" y="4467240"/>
            <a:ext cx="22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23440" y="1700280"/>
            <a:ext cx="22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H="1" flipV="1">
            <a:off x="1142640" y="3357720"/>
            <a:ext cx="18900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451640" y="337500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908000" y="2565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472080" y="236700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-110880" y="1197000"/>
            <a:ext cx="2576880" cy="2160720"/>
            <a:chOff x="-110880" y="1197000"/>
            <a:chExt cx="2576880" cy="21607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971280" y="234972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684000" y="170496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23640" y="22766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9280" y="155736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110880" y="119700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61640" y="1216080"/>
            <a:ext cx="2576880" cy="2158920"/>
            <a:chOff x="6461640" y="1216080"/>
            <a:chExt cx="2576880" cy="215892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7667640" y="250812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380360" y="1863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7020000" y="2435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77080" y="1574640"/>
              <a:ext cx="172728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61640" y="121608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82560" y="4363920"/>
            <a:ext cx="3583440" cy="1640520"/>
            <a:chOff x="682560" y="4363920"/>
            <a:chExt cx="3583440" cy="1640520"/>
          </a:xfrm>
        </p:grpSpPr>
        <p:pic>
          <p:nvPicPr>
            <p:cNvPr id="181" name="" descr=""/>
            <p:cNvPicPr/>
            <p:nvPr/>
          </p:nvPicPr>
          <p:blipFill>
            <a:blip r:embed="rId7"/>
            <a:stretch/>
          </p:blipFill>
          <p:spPr>
            <a:xfrm>
              <a:off x="682560" y="436392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49840" y="530064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contínu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596920" y="4238640"/>
            <a:ext cx="3116160" cy="1640520"/>
            <a:chOff x="5596920" y="4238640"/>
            <a:chExt cx="3116160" cy="164052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6732720" y="423864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596920" y="517536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340000" y="1432080"/>
            <a:ext cx="4176720" cy="2303280"/>
            <a:chOff x="2340000" y="1432080"/>
            <a:chExt cx="4176720" cy="2303280"/>
          </a:xfrm>
        </p:grpSpPr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2916360" y="171288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340000" y="143208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74360" y="2081160"/>
              <a:ext cx="366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Porque a Internet faz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tanto sucesso?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 banco de informaçõ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 meio de comunicaçã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a rede de serviço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a mídia para 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arket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ferramenta para 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E para finalizar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O Email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76560" y="1790640"/>
            <a:ext cx="29908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82789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Conclusões despretenciosas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onclusõe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8440" y="1630080"/>
            <a:ext cx="8256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Internet é um tema absolutamente pertinente quando estudamos as transformações pelas quais o mundo está passando e ainda passará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“grande rede” impacta nossas vidas de diversas formas e integrar-se a ela é fundament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Internet vai “grudar” em todos nó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3668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Faculdade Estácio de Sá de Campo Gr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213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obra de Alvin Tof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2800" y="4754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348160"/>
            <a:ext cx="40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ccff"/>
                </a:solidFill>
                <a:latin typeface="Times New Roman"/>
              </a:rPr>
              <a:t>Cid@Castello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62080" y="5857920"/>
            <a:ext cx="3124080" cy="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4782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Internet  e “A Terceira Ond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65160" y="0"/>
            <a:ext cx="541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1230480"/>
            <a:ext cx="8076960" cy="47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ternet móvel vai superar micros em cinco 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Quinta, 14 de dezembro de 2000, 08h27mi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Em 2005, 50% dos acessos à Internet serão realizados por telefone celular, laptop e notebook. É o que revela uma pesquisa realizada pela consultoria Value Partners. Segundo o estudo, dentro de cinco anos o número de acesso por dispositivos móveis deve superar o de acesso por microcomputadores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Atualmente do total de internautas do planeta apenas 9% são usuários sem fio e outros 82% de computador convencional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Dentro de cinco ano, 56% dos internautas navegarão na Internet utilizando aparelhos móveis. No Brasil, 33% da população estará conectada à rede por meio de diferentes tipos de aparelhos sem fio até 2010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imes New Roman"/>
              </a:rPr>
              <a:t>Agência Estad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www.estado.com.b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2133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Os slides dest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 e de outras palestras </a:t>
            </a: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estão disponíveis 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www.</a:t>
            </a: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CidCastello</a:t>
            </a: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.com.br/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les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4419720"/>
            <a:ext cx="7467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9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2120" y="609480"/>
            <a:ext cx="7696080" cy="56390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212760"/>
            <a:ext cx="3124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8400" y="182880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E-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0" r="0" b="3710"/>
          <a:stretch/>
        </p:blipFill>
        <p:spPr>
          <a:xfrm>
            <a:off x="7372440" y="151452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09480" y="30492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10000" y="2884320"/>
            <a:ext cx="441936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6920" y="2351160"/>
            <a:ext cx="365760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7480" y="243828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Web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960" y="3701880"/>
            <a:ext cx="56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Telefones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+55 67) 9981-9081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      321-77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960" y="444816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Correspondências:</a:t>
            </a:r>
            <a:br>
              <a:rPr sz="2800"/>
            </a:b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ostal 1 Agência Central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EP 79002-970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ampo Grande MS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21680" y="1455840"/>
            <a:ext cx="1517400" cy="2133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0666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ticulista, palestrante e consultor especializado em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624852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7200" y="378000"/>
            <a:ext cx="0" cy="586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581280"/>
            <a:ext cx="0" cy="266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9996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396720"/>
            <a:ext cx="0" cy="105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6560" y="179856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a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9440" y="17985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33560" y="175248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5320" y="2362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Ca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7960" y="23623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67880" y="23623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w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71680" y="3084480"/>
            <a:ext cx="647640" cy="611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81160" y="3124080"/>
            <a:ext cx="30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IN: 113622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325"/>
                            </p:stCondLst>
                            <p:childTnLst>
                              <p:par>
                                <p:cTn id="7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8525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75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905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9875"/>
                            </p:stCondLst>
                            <p:childTnLst>
                              <p:par>
                                <p:cTn id="7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875"/>
                            </p:stCondLst>
                            <p:childTnLst>
                              <p:par>
                                <p:cTn id="7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7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140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19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3325"/>
                            </p:stCondLst>
                            <p:childTnLst>
                              <p:par>
                                <p:cTn id="8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3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3625"/>
                            </p:stCondLst>
                            <p:childTnLst>
                              <p:par>
                                <p:cTn id="8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7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4150"/>
                            </p:stCondLst>
                            <p:childTnLst>
                              <p:par>
                                <p:cTn id="8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4650"/>
                            </p:stCondLst>
                            <p:childTnLst>
                              <p:par>
                                <p:cTn id="8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65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75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655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9175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4950"/>
                            </p:stCondLst>
                            <p:childTnLst>
                              <p:par>
                                <p:cTn id="8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Arial"/>
                <a:ea typeface="Arial"/>
              </a:rPr>
              <a:t>A tecnologia por si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Arial"/>
                <a:ea typeface="Arial"/>
              </a:rPr>
              <a:t>só não faz o futuro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75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s pessoas fazem o futuro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E o futuro são as crianças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75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25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25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Para elas, comida, educação e cultura é o mínimo!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75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22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" y="2514600"/>
            <a:ext cx="8381880" cy="1523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440" y="242244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000" spc="-1" strike="noStrike">
                <a:solidFill>
                  <a:srgbClr val="ff3300"/>
                </a:solidFill>
                <a:latin typeface="Times New Roman"/>
              </a:rPr>
              <a:t>Muito obrigado!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379800">
            <a:off x="2916000" y="1268640"/>
            <a:ext cx="2664000" cy="936360"/>
          </a:xfrm>
          <a:prstGeom prst="leftArrow">
            <a:avLst>
              <a:gd name="adj1" fmla="val 50000"/>
              <a:gd name="adj2" fmla="val 7112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8379800">
            <a:off x="900000" y="1267920"/>
            <a:ext cx="2664000" cy="936720"/>
          </a:xfrm>
          <a:prstGeom prst="leftArrow">
            <a:avLst>
              <a:gd name="adj1" fmla="val 50000"/>
              <a:gd name="adj2" fmla="val 7109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293640" y="61920"/>
            <a:ext cx="2341440" cy="295092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2950920"/>
              <a:gd name="textAreaBottom" fmla="*/ 295128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2724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24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6280" y="371484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708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w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708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25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25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Objetivos singelos…</a:t>
            </a:r>
            <a:endParaRPr b="1" i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Objetivo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8440" y="1630080"/>
            <a:ext cx="8256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ntificar a correlação entre a Internet e o fenômeno chamado por Alvin Toffler de “A Terceira Onda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zer um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verview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obre a “grande rede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or algumas explicações para o sucesso da Internet e seu impacto na vida de todos nós, que estamos no meio da chamada “Terceira Onda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4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8:23:18Z</dcterms:created>
  <dc:creator>Cid Castello</dc:creator>
  <dc:description/>
  <dc:language>en-US</dc:language>
  <cp:lastModifiedBy>Cid Castello</cp:lastModifiedBy>
  <dcterms:modified xsi:type="dcterms:W3CDTF">2004-06-03T23:13:21Z</dcterms:modified>
  <cp:revision>614</cp:revision>
  <dc:subject/>
  <dc:title>Apresentação do PowerPoint</dc:title>
</cp:coreProperties>
</file>